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1D29-33B6-4BE5-82FA-520E3875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902-67E7-4FAC-9D20-04E1534A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2DBA-2CDE-4AB4-860A-B7290BDC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75F8-B6AF-4D4F-80CF-06D1431F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EE9-668C-495C-BAFC-5514976F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797-CB25-4411-8FBF-6C8DC670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F341-9BBF-40AC-90FA-42C3EB53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70C9-9355-4C76-B794-3F8F29F6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CF55-034F-47D3-8456-1D97DCE7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072B-121F-41E7-B17C-A36C181E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220-F2DF-43EE-A859-91076859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234F-D138-4B31-A24A-9B6745D3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A916-C2E6-4A99-AB66-A5A191DD7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14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492280"/>
            <a:ext cx="58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АР - КОНДИТЕ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9720"/>
            <a:ext cx="9144000" cy="557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98400"/>
            <a:ext cx="9144000" cy="545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0"/>
            <a:ext cx="8686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20" y="0"/>
            <a:ext cx="8859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0520"/>
            <a:ext cx="914400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600" y="0"/>
            <a:ext cx="879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44720"/>
            <a:ext cx="9144000" cy="47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30320" y="0"/>
            <a:ext cx="7081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" y="0"/>
            <a:ext cx="907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6760"/>
            <a:ext cx="914400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пециалист, умеющий изготавливать кондитерские изделия и дес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6040"/>
            <a:ext cx="9144000" cy="596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9144000" cy="39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5240"/>
            <a:ext cx="9144000" cy="65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03440"/>
            <a:ext cx="9144000" cy="544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557360"/>
            <a:ext cx="3475080" cy="515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920" y="836640"/>
            <a:ext cx="5977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дводи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о-важные каче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ть гот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ая па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вкусова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нкий вкус и обон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а уровне рук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азомер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оизводящее воображение (способность, глядя на рецепт, представить внешний вид и вкус блюд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дитеру нуж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изическая вынослив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поточном производстве приходится работать в высоком темпе, а если на производстве нет автоматизации, это означает большие физические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е противопо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зни опорно-двигательного аппарата, сердечнососудистой системы,  аллергии на пищевые продукты, хронические заболевания органов пищеварения, органов дыхания, органов зрения, кожи с локализацией на кистях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о недопустимы инфекционные и нерв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514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628640"/>
            <a:ext cx="7199280" cy="42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89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райф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диционный английский десе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английского - «Мелочь», «Пустяч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чалом работ надеть форму, перч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десерта описано в технологической карте. Соблюдайте технологию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 о правилах безопасной работы с ножом и электрическим микс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иготовления 15 мину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44640"/>
            <a:ext cx="4537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«Кофе-брей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6028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Фруктовый (ягодный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2480" y="1844640"/>
            <a:ext cx="3608640" cy="45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ЕЦЕП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765000"/>
          <a:ext cx="8229600" cy="492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«Кофе-брей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«Фруктовый (ягодный)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холодным коф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ягодным сиро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– сироп (варенье из я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бан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фрукты или я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,7,8 слои повторяют 1,2,3,4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лой –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9:14:04Z</dcterms:created>
  <dc:creator>Александр</dc:creator>
  <dc:description/>
  <dc:language>en-US</dc:language>
  <cp:lastModifiedBy>Александр</cp:lastModifiedBy>
  <dcterms:modified xsi:type="dcterms:W3CDTF">2017-12-21T02:47:06Z</dcterms:modified>
  <cp:revision>4</cp:revision>
  <dc:subject/>
  <dc:title>Слайд 1</dc:title>
</cp:coreProperties>
</file>